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C88-0B10-4435-B23D-D5981096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67C-22BF-4C7D-955D-4270C83E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FD4-DB72-41D9-888E-52F14E0A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565-0C0E-41DA-9433-5880FE5C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690-E76B-444E-90A7-F7A51126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FB1-7F29-4DC8-98C5-B7BF131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55B-3961-4E3D-B255-80660977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204-D515-425D-AD53-3DEEF67E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E7B-0F4F-426F-AC0C-525270B4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2DC-B47C-4BA1-A408-0423F69F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00C-A646-46CB-B6E2-2AD9FB81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B72-9D6E-4084-AE5F-6355B15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5967-11D5-4F30-9FB9-F722AF7E1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573360"/>
            <a:ext cx="100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badc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635040"/>
            <a:ext cx="367200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dc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1427040"/>
            <a:ext cx="2519280" cy="12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e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41300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Joram 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1282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500280"/>
            <a:ext cx="100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badc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573360"/>
            <a:ext cx="863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335772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33cc"/>
                </a:solidFill>
                <a:latin typeface="Arial"/>
              </a:rPr>
              <a:t>mdb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541440" cy="4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1258920" y="1844640"/>
            <a:ext cx="172872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4400" y="1628640"/>
            <a:ext cx="1082520" cy="6066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dbQueu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2920" y="1773360"/>
            <a:ext cx="650880" cy="4348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35640" y="1916280"/>
            <a:ext cx="288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933720"/>
            <a:ext cx="367200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100000">
                <a:srgbClr val="dc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4221000"/>
            <a:ext cx="251928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ef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518004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Joram 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5381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22920" y="5742000"/>
            <a:ext cx="541440" cy="423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24400" y="4927680"/>
            <a:ext cx="1082520" cy="6062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dbQueu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4724280"/>
            <a:ext cx="650880" cy="43524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435640" y="4941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0920" y="2219400"/>
            <a:ext cx="0" cy="2722320"/>
          </a:xfrm>
          <a:prstGeom prst="line">
            <a:avLst/>
          </a:prstGeom>
          <a:ln w="50760">
            <a:solidFill>
              <a:srgbClr val="ff99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1773360"/>
            <a:ext cx="10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98900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4581360"/>
            <a:ext cx="10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364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3860640"/>
            <a:ext cx="1728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38560" y="1197000"/>
            <a:ext cx="1657440" cy="4981680"/>
          </a:xfrm>
          <a:prstGeom prst="ellipse">
            <a:avLst/>
          </a:prstGeom>
          <a:solidFill>
            <a:srgbClr val="ff99cc">
              <a:alpha val="28000"/>
            </a:srgbClr>
          </a:solidFill>
          <a:ln w="2556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2205000"/>
            <a:ext cx="1152720" cy="719280"/>
          </a:xfrm>
          <a:prstGeom prst="wedgeRoundRectCallout">
            <a:avLst>
              <a:gd name="adj1" fmla="val -56337"/>
              <a:gd name="adj2" fmla="val 124171"/>
              <a:gd name="adj3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tion’ proper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4292640"/>
            <a:ext cx="863640" cy="93672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1700280"/>
            <a:ext cx="863640" cy="8636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2565360"/>
            <a:ext cx="0" cy="1800360"/>
          </a:xfrm>
          <a:prstGeom prst="line">
            <a:avLst/>
          </a:prstGeom>
          <a:ln w="507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692280"/>
            <a:ext cx="576360" cy="57456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4920" y="1986120"/>
            <a:ext cx="720720" cy="2188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lustered C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661000"/>
            <a:ext cx="576360" cy="57456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4581360"/>
            <a:ext cx="720720" cy="219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lustered C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335772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ccccff"/>
                </a:solidFill>
                <a:latin typeface="Arial"/>
              </a:rPr>
              <a:t>clusterQ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32:45Z</dcterms:created>
  <dc:creator>pelletier</dc:creator>
  <dc:description/>
  <dc:language>en-US</dc:language>
  <cp:lastModifiedBy>pelletier</cp:lastModifiedBy>
  <dcterms:modified xsi:type="dcterms:W3CDTF">2008-02-12T15:11:39Z</dcterms:modified>
  <cp:revision>27</cp:revision>
  <dc:subject/>
  <dc:title>Slide 1</dc:title>
</cp:coreProperties>
</file>