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FDE9-4060-402B-88F4-3DE746F2F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2305-DFDF-4BEF-839D-73EBE7886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28E7-1402-4E6B-873A-89F7A0382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E749-A286-4726-B323-8D5949768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237D-414A-451C-A63C-B69E2FCDF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6876-615E-44F1-990D-ACF509D3C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0B8E-DDC4-4503-A799-0759286E1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53A5-4F98-4962-B2AA-2DB5891FE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646B-23D5-4723-B4C3-262A39A00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22CA-6CDC-449E-8107-0430B381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2430-1FBC-45FC-A6F5-AF04CB39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11BE-953A-4345-B92E-F3141F9D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E78E4-C850-45C6-BA39-F9BF0B0E34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08360" y="635040"/>
            <a:ext cx="3672000" cy="23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cc"/>
              </a:gs>
              <a:gs pos="100000">
                <a:srgbClr val="dcfe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24360" y="1427040"/>
            <a:ext cx="251928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c"/>
              </a:gs>
              <a:gs pos="100000">
                <a:srgbClr val="fefe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40360" y="1498680"/>
            <a:ext cx="122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Joram S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588000" y="128268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J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835280" y="1612800"/>
            <a:ext cx="100944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ff"/>
              </a:gs>
              <a:gs pos="100000">
                <a:srgbClr val="badc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08000" y="1628640"/>
            <a:ext cx="863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produ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730920" y="3357720"/>
            <a:ext cx="187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ff33cc"/>
                </a:solidFill>
                <a:latin typeface="Arial"/>
              </a:rPr>
              <a:t>MdbClusterTop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732720" y="907920"/>
            <a:ext cx="541080" cy="424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 flipV="1">
            <a:off x="2843280" y="1860120"/>
            <a:ext cx="2665440" cy="5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61120" y="1628640"/>
            <a:ext cx="1082520" cy="60660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Top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dbTopic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FR" sz="1000" spc="-1" strike="noStrike">
                <a:solidFill>
                  <a:srgbClr val="000000"/>
                </a:solidFill>
                <a:latin typeface="Arial"/>
              </a:rPr>
              <a:t>mdbTop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356000" y="2362320"/>
            <a:ext cx="650880" cy="434880"/>
          </a:xfrm>
          <a:prstGeom prst="ellipse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DB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4932000" y="2075040"/>
            <a:ext cx="576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3933720"/>
            <a:ext cx="3672000" cy="230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cc"/>
              </a:gs>
              <a:gs pos="100000">
                <a:srgbClr val="dcfe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4726080"/>
            <a:ext cx="251928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c"/>
              </a:gs>
              <a:gs pos="100000">
                <a:srgbClr val="fefe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40360" y="4797360"/>
            <a:ext cx="122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Joram S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516720" y="522936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J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659640" y="5589720"/>
            <a:ext cx="541440" cy="423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361120" y="4927680"/>
            <a:ext cx="1082520" cy="60624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Top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dbTopic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FR" sz="1000" spc="-1" strike="noStrike">
                <a:solidFill>
                  <a:srgbClr val="000000"/>
                </a:solidFill>
                <a:latin typeface="Arial"/>
              </a:rPr>
              <a:t>mdbTop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356000" y="5661000"/>
            <a:ext cx="650880" cy="434880"/>
          </a:xfrm>
          <a:prstGeom prst="ellipse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DB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4932000" y="5373720"/>
            <a:ext cx="576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219400"/>
            <a:ext cx="0" cy="2722320"/>
          </a:xfrm>
          <a:prstGeom prst="line">
            <a:avLst/>
          </a:prstGeom>
          <a:ln w="5076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5280" y="1197000"/>
            <a:ext cx="1657440" cy="4981680"/>
          </a:xfrm>
          <a:prstGeom prst="ellipse">
            <a:avLst/>
          </a:prstGeom>
          <a:solidFill>
            <a:srgbClr val="ff99cc">
              <a:alpha val="28000"/>
            </a:srgbClr>
          </a:solidFill>
          <a:ln w="25560">
            <a:solidFill>
              <a:srgbClr val="ff99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56000" y="2852640"/>
            <a:ext cx="1079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634920" y="2708280"/>
            <a:ext cx="792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56000" y="6021360"/>
            <a:ext cx="1079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634920" y="5950080"/>
            <a:ext cx="792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8T10:32:45Z</dcterms:created>
  <dc:creator>pelletier</dc:creator>
  <dc:description/>
  <dc:language>en-US</dc:language>
  <cp:lastModifiedBy>pelletier</cp:lastModifiedBy>
  <dcterms:modified xsi:type="dcterms:W3CDTF">2008-02-12T13:39:40Z</dcterms:modified>
  <cp:revision>20</cp:revision>
  <dc:subject/>
  <dc:title>Slide 1</dc:title>
</cp:coreProperties>
</file>