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2184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400" y="912960"/>
            <a:ext cx="82198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400" y="3613680"/>
            <a:ext cx="82198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2184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400" y="912960"/>
            <a:ext cx="40111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400" y="912960"/>
            <a:ext cx="40111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400" y="3613680"/>
            <a:ext cx="40111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400" y="3613680"/>
            <a:ext cx="40111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2184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400" y="912960"/>
            <a:ext cx="26467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4960" y="912960"/>
            <a:ext cx="26467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4160" y="912960"/>
            <a:ext cx="26467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400" y="3613680"/>
            <a:ext cx="26467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4960" y="3613680"/>
            <a:ext cx="26467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4160" y="3613680"/>
            <a:ext cx="26467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2184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400" y="912960"/>
            <a:ext cx="82198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600"/>
              </a:lnSpc>
              <a:spcAft>
                <a:spcPts val="9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2184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400" y="912960"/>
            <a:ext cx="82198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2184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400" y="912960"/>
            <a:ext cx="401112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400" y="912960"/>
            <a:ext cx="401112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2184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21844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6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2184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400" y="912960"/>
            <a:ext cx="40111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400" y="912960"/>
            <a:ext cx="401112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400" y="3613680"/>
            <a:ext cx="40111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2184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400" y="912960"/>
            <a:ext cx="401112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400" y="912960"/>
            <a:ext cx="40111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400" y="3613680"/>
            <a:ext cx="40111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2184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400" y="912960"/>
            <a:ext cx="40111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400" y="912960"/>
            <a:ext cx="40111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00" y="3613680"/>
            <a:ext cx="82198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435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829480"/>
            <a:ext cx="9144000" cy="1028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467480" y="6319800"/>
            <a:ext cx="1371600" cy="4240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914400" y="6381720"/>
            <a:ext cx="1600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ts val="117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A3263D-2CB7-4F07-8D7A-C5960714FA9C}" type="slidenum">
              <a:rPr b="0" i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© Bull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33920" y="6459480"/>
            <a:ext cx="17524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ts val="117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Cluster J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21844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5400" y="912960"/>
            <a:ext cx="82198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9720" indent="-369720">
              <a:lnSpc>
                <a:spcPts val="2435"/>
              </a:lnSpc>
              <a:spcAft>
                <a:spcPts val="601"/>
              </a:spcAft>
              <a:buSzPct val="102884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82600">
              <a:lnSpc>
                <a:spcPts val="2435"/>
              </a:lnSpc>
              <a:spcAft>
                <a:spcPts val="601"/>
              </a:spcAft>
              <a:buClr>
                <a:srgbClr val="000066"/>
              </a:buClr>
              <a:buSzPct val="70000"/>
              <a:buFont typeface="Wingdings" charset="2"/>
              <a:buChar char="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4640" indent="-282600">
              <a:lnSpc>
                <a:spcPts val="2435"/>
              </a:lnSpc>
              <a:spcAft>
                <a:spcPts val="601"/>
              </a:spcAft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274680">
              <a:lnSpc>
                <a:spcPts val="2435"/>
              </a:lnSpc>
              <a:spcAft>
                <a:spcPts val="601"/>
              </a:spcAft>
              <a:buClr>
                <a:srgbClr val="666699"/>
              </a:buClr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19200" indent="-282600">
              <a:lnSpc>
                <a:spcPts val="2435"/>
              </a:lnSpc>
              <a:spcAft>
                <a:spcPts val="601"/>
              </a:spcAft>
              <a:buClr>
                <a:srgbClr val="666699"/>
              </a:buClr>
              <a:buFont typeface="Wingdings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19200" indent="-282600">
              <a:lnSpc>
                <a:spcPts val="2435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19200" indent="-282600">
              <a:lnSpc>
                <a:spcPts val="2435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762120"/>
            <a:ext cx="3809880" cy="3581280"/>
          </a:xfrm>
          <a:prstGeom prst="roundRect">
            <a:avLst>
              <a:gd name="adj" fmla="val 833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762120"/>
            <a:ext cx="3809880" cy="3581280"/>
          </a:xfrm>
          <a:prstGeom prst="roundRect">
            <a:avLst>
              <a:gd name="adj" fmla="val 7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05520" y="1066680"/>
            <a:ext cx="1600200" cy="1676520"/>
          </a:xfrm>
          <a:custGeom>
            <a:avLst/>
            <a:gdLst>
              <a:gd name="textAreaLeft" fmla="*/ 360 w 1600200"/>
              <a:gd name="textAreaRight" fmla="*/ 1599840 w 1600200"/>
              <a:gd name="textAreaTop" fmla="*/ 360 h 1676520"/>
              <a:gd name="textAreaBottom" fmla="*/ 1676160 h 1676520"/>
            </a:gdLst>
            <a:ahLst/>
            <a:rect l="textAreaLeft" t="textAreaTop" r="textAreaRight" b="textAreaBottom"/>
            <a:pathLst>
              <a:path w="21600" h="22630">
                <a:moveTo>
                  <a:pt x="21" y="0"/>
                </a:moveTo>
                <a:arcTo wR="21" hR="21" stAng="16200000" swAng="-5400000"/>
                <a:lnTo>
                  <a:pt x="0" y="22609"/>
                </a:lnTo>
                <a:arcTo wR="21" hR="21" stAng="10800000" swAng="-5400000"/>
                <a:lnTo>
                  <a:pt x="21579" y="22630"/>
                </a:lnTo>
                <a:arcTo wR="21" hR="21" stAng="5400000" swAng="-5400000"/>
                <a:lnTo>
                  <a:pt x="21600" y="21"/>
                </a:lnTo>
                <a:arcTo wR="21" hR="21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066680"/>
            <a:ext cx="1600200" cy="1676520"/>
          </a:xfrm>
          <a:custGeom>
            <a:avLst/>
            <a:gdLst>
              <a:gd name="textAreaLeft" fmla="*/ 360 w 1600200"/>
              <a:gd name="textAreaRight" fmla="*/ 1599840 w 1600200"/>
              <a:gd name="textAreaTop" fmla="*/ 360 h 1676520"/>
              <a:gd name="textAreaBottom" fmla="*/ 1676160 h 1676520"/>
            </a:gdLst>
            <a:ahLst/>
            <a:rect l="textAreaLeft" t="textAreaTop" r="textAreaRight" b="textAreaBottom"/>
            <a:pathLst>
              <a:path w="21600" h="22630">
                <a:moveTo>
                  <a:pt x="21" y="0"/>
                </a:moveTo>
                <a:arcTo wR="21" hR="21" stAng="16200000" swAng="-5400000"/>
                <a:lnTo>
                  <a:pt x="0" y="22609"/>
                </a:lnTo>
                <a:arcTo wR="21" hR="21" stAng="10800000" swAng="-5400000"/>
                <a:lnTo>
                  <a:pt x="21579" y="22630"/>
                </a:lnTo>
                <a:arcTo wR="21" hR="21" stAng="5400000" swAng="-5400000"/>
                <a:lnTo>
                  <a:pt x="21600" y="21"/>
                </a:lnTo>
                <a:arcTo wR="21" hR="21" stAng="0" swAng="-5400000"/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  <a:ea typeface="HG Mincho Light J;MS Gothic;HG"/>
              </a:rPr>
              <a:t>MDB Cluste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600200"/>
            <a:ext cx="5029200" cy="880920"/>
          </a:xfrm>
          <a:prstGeom prst="roundRect">
            <a:avLst>
              <a:gd name="adj" fmla="val 125"/>
            </a:avLst>
          </a:prstGeom>
          <a:solidFill>
            <a:srgbClr val="00b8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5486400"/>
            <a:ext cx="16002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Client J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2530440"/>
            <a:ext cx="11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OnAS A_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87600" y="1143000"/>
            <a:ext cx="685800" cy="2541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2438280"/>
            <a:ext cx="11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OnAS B_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88960" y="1752480"/>
            <a:ext cx="914400" cy="684360"/>
          </a:xfrm>
          <a:custGeom>
            <a:avLst/>
            <a:gdLst/>
            <a:ahLst/>
            <a:rect l="l" t="t" r="r" b="b"/>
            <a:pathLst>
              <a:path w="2541" h="1901">
                <a:moveTo>
                  <a:pt x="0" y="1900"/>
                </a:moveTo>
                <a:cubicBezTo>
                  <a:pt x="0" y="1266"/>
                  <a:pt x="0" y="632"/>
                  <a:pt x="0" y="0"/>
                </a:cubicBezTo>
                <a:cubicBezTo>
                  <a:pt x="847" y="0"/>
                  <a:pt x="1693" y="0"/>
                  <a:pt x="2540" y="0"/>
                </a:cubicBezTo>
                <a:cubicBezTo>
                  <a:pt x="2540" y="632"/>
                  <a:pt x="2540" y="1266"/>
                  <a:pt x="2540" y="1900"/>
                </a:cubicBezTo>
                <a:cubicBezTo>
                  <a:pt x="1694" y="1900"/>
                  <a:pt x="847" y="1900"/>
                  <a:pt x="0" y="19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38280" y="1752480"/>
            <a:ext cx="82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RAM A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00720" y="1728720"/>
            <a:ext cx="914400" cy="684360"/>
          </a:xfrm>
          <a:custGeom>
            <a:avLst/>
            <a:gdLst/>
            <a:ahLst/>
            <a:rect l="l" t="t" r="r" b="b"/>
            <a:pathLst>
              <a:path w="2541" h="1902">
                <a:moveTo>
                  <a:pt x="0" y="1901"/>
                </a:moveTo>
                <a:cubicBezTo>
                  <a:pt x="0" y="1266"/>
                  <a:pt x="0" y="632"/>
                  <a:pt x="0" y="0"/>
                </a:cubicBezTo>
                <a:cubicBezTo>
                  <a:pt x="847" y="0"/>
                  <a:pt x="1693" y="0"/>
                  <a:pt x="2540" y="0"/>
                </a:cubicBezTo>
                <a:cubicBezTo>
                  <a:pt x="2540" y="632"/>
                  <a:pt x="2540" y="1266"/>
                  <a:pt x="2540" y="1901"/>
                </a:cubicBezTo>
                <a:cubicBezTo>
                  <a:pt x="1694" y="1901"/>
                  <a:pt x="847" y="1901"/>
                  <a:pt x="0" y="19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1752480"/>
            <a:ext cx="82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RAM B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77280" y="2111400"/>
            <a:ext cx="157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Times New Roman"/>
              </a:rPr>
              <a:t>JORAM H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2590920"/>
            <a:ext cx="1600200" cy="1676160"/>
          </a:xfrm>
          <a:custGeom>
            <a:avLst/>
            <a:gdLst>
              <a:gd name="textAreaLeft" fmla="*/ 360 w 1600200"/>
              <a:gd name="textAreaRight" fmla="*/ 1599840 w 1600200"/>
              <a:gd name="textAreaTop" fmla="*/ 360 h 1676160"/>
              <a:gd name="textAreaBottom" fmla="*/ 1675800 h 1676160"/>
            </a:gdLst>
            <a:ahLst/>
            <a:rect l="textAreaLeft" t="textAreaTop" r="textAreaRight" b="textAreaBottom"/>
            <a:pathLst>
              <a:path w="21600" h="22625">
                <a:moveTo>
                  <a:pt x="21" y="0"/>
                </a:moveTo>
                <a:arcTo wR="21" hR="21" stAng="16200000" swAng="-5400000"/>
                <a:lnTo>
                  <a:pt x="0" y="22604"/>
                </a:lnTo>
                <a:arcTo wR="21" hR="21" stAng="10800000" swAng="-5400000"/>
                <a:lnTo>
                  <a:pt x="21579" y="22625"/>
                </a:lnTo>
                <a:arcTo wR="21" hR="21" stAng="5400000" swAng="-5400000"/>
                <a:lnTo>
                  <a:pt x="21600" y="21"/>
                </a:lnTo>
                <a:arcTo wR="21" hR="21" stAng="0" swAng="-5400000"/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4054320"/>
            <a:ext cx="11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OnAS B_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590920"/>
            <a:ext cx="1600200" cy="1676160"/>
          </a:xfrm>
          <a:custGeom>
            <a:avLst/>
            <a:gdLst>
              <a:gd name="textAreaLeft" fmla="*/ 360 w 1600200"/>
              <a:gd name="textAreaRight" fmla="*/ 1599840 w 1600200"/>
              <a:gd name="textAreaTop" fmla="*/ 360 h 1676160"/>
              <a:gd name="textAreaBottom" fmla="*/ 1675800 h 1676160"/>
            </a:gdLst>
            <a:ahLst/>
            <a:rect l="textAreaLeft" t="textAreaTop" r="textAreaRight" b="textAreaBottom"/>
            <a:pathLst>
              <a:path w="21600" h="22625">
                <a:moveTo>
                  <a:pt x="21" y="0"/>
                </a:moveTo>
                <a:arcTo wR="21" hR="21" stAng="16200000" swAng="-5400000"/>
                <a:lnTo>
                  <a:pt x="0" y="22604"/>
                </a:lnTo>
                <a:arcTo wR="21" hR="21" stAng="10800000" swAng="-5400000"/>
                <a:lnTo>
                  <a:pt x="21579" y="22625"/>
                </a:lnTo>
                <a:arcTo wR="21" hR="21" stAng="5400000" swAng="-5400000"/>
                <a:lnTo>
                  <a:pt x="21600" y="21"/>
                </a:lnTo>
                <a:arcTo wR="21" hR="21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45160" y="1957320"/>
            <a:ext cx="228600" cy="228600"/>
          </a:xfrm>
          <a:prstGeom prst="ellipse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81200" y="1981080"/>
            <a:ext cx="228600" cy="228600"/>
          </a:xfrm>
          <a:prstGeom prst="ellipse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057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600200"/>
            <a:ext cx="73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Distribu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JMS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5880" y="2768760"/>
            <a:ext cx="2921040" cy="2717640"/>
          </a:xfrm>
          <a:custGeom>
            <a:avLst/>
            <a:gdLst/>
            <a:ahLst/>
            <a:rect l="l" t="t" r="r" b="b"/>
            <a:pathLst>
              <a:path w="1840" h="1712">
                <a:moveTo>
                  <a:pt x="0" y="0"/>
                </a:moveTo>
                <a:lnTo>
                  <a:pt x="640" y="1248"/>
                </a:lnTo>
                <a:lnTo>
                  <a:pt x="1840" y="1712"/>
                </a:lnTo>
              </a:path>
            </a:pathLst>
          </a:custGeom>
          <a:noFill/>
          <a:ln w="54720">
            <a:solidFill>
              <a:srgbClr val="ff33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4305240"/>
            <a:ext cx="2463840" cy="1168560"/>
          </a:xfrm>
          <a:custGeom>
            <a:avLst/>
            <a:gdLst/>
            <a:ahLst/>
            <a:rect l="l" t="t" r="r" b="b"/>
            <a:pathLst>
              <a:path w="1552" h="736">
                <a:moveTo>
                  <a:pt x="1552" y="0"/>
                </a:moveTo>
                <a:lnTo>
                  <a:pt x="648" y="440"/>
                </a:lnTo>
                <a:lnTo>
                  <a:pt x="0" y="736"/>
                </a:lnTo>
              </a:path>
            </a:pathLst>
          </a:custGeom>
          <a:noFill/>
          <a:ln w="54720">
            <a:solidFill>
              <a:srgbClr val="ff33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157560"/>
            <a:ext cx="5029200" cy="880920"/>
          </a:xfrm>
          <a:prstGeom prst="roundRect">
            <a:avLst>
              <a:gd name="adj" fmla="val 125"/>
            </a:avLst>
          </a:prstGeom>
          <a:solidFill>
            <a:srgbClr val="00b8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4876920"/>
            <a:ext cx="40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66"/>
                </a:solidFill>
                <a:latin typeface="Times New Roman"/>
              </a:rPr>
              <a:t>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38440" y="1828800"/>
            <a:ext cx="685800" cy="1440"/>
          </a:xfrm>
          <a:prstGeom prst="line">
            <a:avLst/>
          </a:prstGeom>
          <a:ln w="91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905120" y="1371600"/>
            <a:ext cx="6120" cy="380880"/>
          </a:xfrm>
          <a:prstGeom prst="line">
            <a:avLst/>
          </a:prstGeom>
          <a:ln w="7308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620120" y="2928960"/>
            <a:ext cx="0" cy="380880"/>
          </a:xfrm>
          <a:prstGeom prst="line">
            <a:avLst/>
          </a:prstGeom>
          <a:ln w="7308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762120"/>
            <a:ext cx="11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AC.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5880" y="762120"/>
            <a:ext cx="11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AC.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4360" y="3668760"/>
            <a:ext cx="157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Times New Roman"/>
              </a:rPr>
              <a:t>JORAM H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105160" y="3386160"/>
            <a:ext cx="685800" cy="1440"/>
          </a:xfrm>
          <a:prstGeom prst="line">
            <a:avLst/>
          </a:prstGeom>
          <a:ln w="91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4038480"/>
            <a:ext cx="11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OnAS A_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309840"/>
            <a:ext cx="914400" cy="684360"/>
          </a:xfrm>
          <a:custGeom>
            <a:avLst/>
            <a:gdLst/>
            <a:ahLst/>
            <a:rect l="l" t="t" r="r" b="b"/>
            <a:pathLst>
              <a:path w="2541" h="1902">
                <a:moveTo>
                  <a:pt x="0" y="1901"/>
                </a:moveTo>
                <a:cubicBezTo>
                  <a:pt x="0" y="1266"/>
                  <a:pt x="0" y="632"/>
                  <a:pt x="0" y="0"/>
                </a:cubicBezTo>
                <a:cubicBezTo>
                  <a:pt x="847" y="0"/>
                  <a:pt x="1693" y="0"/>
                  <a:pt x="2540" y="0"/>
                </a:cubicBezTo>
                <a:cubicBezTo>
                  <a:pt x="2540" y="632"/>
                  <a:pt x="2540" y="1266"/>
                  <a:pt x="2540" y="1901"/>
                </a:cubicBezTo>
                <a:cubicBezTo>
                  <a:pt x="1694" y="1901"/>
                  <a:pt x="847" y="1901"/>
                  <a:pt x="0" y="19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9760" y="3333600"/>
            <a:ext cx="82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RAM A_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68520" y="3538440"/>
            <a:ext cx="228600" cy="228600"/>
          </a:xfrm>
          <a:prstGeom prst="ellipse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3309840"/>
            <a:ext cx="914400" cy="684360"/>
          </a:xfrm>
          <a:custGeom>
            <a:avLst/>
            <a:gdLst/>
            <a:ahLst/>
            <a:rect l="l" t="t" r="r" b="b"/>
            <a:pathLst>
              <a:path w="2541" h="1901">
                <a:moveTo>
                  <a:pt x="0" y="1900"/>
                </a:moveTo>
                <a:cubicBezTo>
                  <a:pt x="0" y="1266"/>
                  <a:pt x="0" y="632"/>
                  <a:pt x="0" y="0"/>
                </a:cubicBezTo>
                <a:cubicBezTo>
                  <a:pt x="847" y="0"/>
                  <a:pt x="1693" y="0"/>
                  <a:pt x="2540" y="0"/>
                </a:cubicBezTo>
                <a:cubicBezTo>
                  <a:pt x="2540" y="632"/>
                  <a:pt x="2540" y="1266"/>
                  <a:pt x="2540" y="1900"/>
                </a:cubicBezTo>
                <a:cubicBezTo>
                  <a:pt x="1694" y="1900"/>
                  <a:pt x="847" y="1900"/>
                  <a:pt x="0" y="19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3309840"/>
            <a:ext cx="82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RAM B_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54800" y="3538440"/>
            <a:ext cx="228600" cy="228600"/>
          </a:xfrm>
          <a:prstGeom prst="ellipse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9907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9907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1143000"/>
            <a:ext cx="685800" cy="2541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2666880"/>
            <a:ext cx="685800" cy="2541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15200" y="2674800"/>
            <a:ext cx="685800" cy="2541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M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PELLETIER Benoit</cp:lastModifiedBy>
  <dcterms:modified xsi:type="dcterms:W3CDTF">2005-04-07T12:44:54Z</dcterms:modified>
  <cp:revision>137</cp:revision>
  <dc:subject/>
  <dc:title>JOnAS Cluster  Status</dc:title>
</cp:coreProperties>
</file>